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8B6-B58D-440B-9EC1-C0F55CFA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001-A3D4-421C-9716-831D2750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932-FE63-4281-B474-B16F19AC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5AA-DFCE-401E-A168-93CF2B22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CC3-DAC7-4AB1-A72A-90F70E8D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9F0-AE64-43EB-B807-CF99F80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F6F-EF82-4193-A808-8B983133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67A-D3C0-4EB5-8466-9EDF04E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964-DE7B-4D95-BC96-50502D6A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F40-1932-44E4-97D2-AE52376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CE5-7B69-47E6-B049-71FECABA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7FE-19FE-41B1-91B8-131A095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AA7E-7C1F-412B-AA13-970BB6BDE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epperson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davincicook.com/wp-content/uploads/2009/10/EppersonFrank-168x300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8600"/>
            <a:ext cx="86104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80c0c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PSICLE™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80c0c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449568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h 8</a:t>
            </a:r>
            <a:r>
              <a:rPr b="1" i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uter #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mmer Day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March 11, 2010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6477120" y="1600200"/>
            <a:ext cx="216216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634032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melson MIT Program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opsicle™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ch 9, 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epperson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Epperson"/>
          <p:cNvPicPr/>
          <p:nvPr/>
        </p:nvPicPr>
        <p:blipFill>
          <a:blip r:embed="rId3"/>
          <a:stretch/>
        </p:blipFill>
        <p:spPr>
          <a:xfrm>
            <a:off x="2590920" y="0"/>
            <a:ext cx="5257800" cy="164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57200" y="1219320"/>
            <a:ext cx="230040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518148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g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ank Epperson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rch 9 ,20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avincicook.com/wp-content/uploads/2009/10/EppersonFrank-168x300.jp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hundreds of millions of popsicles are eaten in the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year there are more than thirty flavors available including grape, lime, banana, cherry, and raspbe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 popsicles were invented during the Great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sicle sticks were first made from Birch-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opsicles...Fudgsicle, Creamsicle and Dream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950"/>
                            </p:stCondLst>
                            <p:childTnLst>
                              <p:par>
                                <p:cTn id="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5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95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1894 and raised in San Francis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5, Epperson was 11 years old, left a fruit drink out overnight (with a stirrer in it), and it froze, making a new treat, then created “Epsic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ld his rights to the Popsicle to the Joe Lowe company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children renamed it the Pops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person also invented the twin popsicle (with two sticks so it could be shared by two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04:37Z</dcterms:created>
  <dc:creator>install</dc:creator>
  <dc:description/>
  <dc:language>en-US</dc:language>
  <cp:lastModifiedBy>install</cp:lastModifiedBy>
  <dcterms:modified xsi:type="dcterms:W3CDTF">2010-03-18T13:41:06Z</dcterms:modified>
  <cp:revision>12</cp:revision>
  <dc:subject/>
  <dc:title>Slide 1</dc:title>
</cp:coreProperties>
</file>